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A670-F9A7-495E-8468-A7091A329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4C77-2FF5-4199-ADBD-F8183E7CA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A15C-CAD9-4BD6-A894-B87A315F0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BD25-A367-4D06-8665-BAEF6D80C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0AE7-1F4A-481E-9B0B-9BE4F9191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D3AB-49B4-4527-BE01-711F0834A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DE3C-0BB1-405C-8A9B-5FA87E4A1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31CD-F03A-4282-8BCD-40C37A0E9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2E75-197F-4E3A-8DF1-397562083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CB79-868A-482E-A6CA-2ACB9F56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68B0-6DEF-49D0-AC19-BDAC9D31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B0EA-D7FE-43DE-A965-FFC18B43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86E586-999E-45CD-9648-3AAB04BB2E1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619280" y="1320840"/>
            <a:ext cx="7380360" cy="497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0744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 velho cã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0360" y="1260360"/>
            <a:ext cx="9180360" cy="57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a velha senhora foi para um safári na África e levou seu velho vira-lata com el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 dia, caçando borboletas, o velho cão, de repente, deu-se conta de que estava perdi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agando a esmo, procurando o caminho de volta, o velho cão percebe que um jovem leopardo o viu e caminha em sua direção, com intenção de conseguir um bom almoç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cachorro velho pens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"Oh, oh! Estou mesmo enrascado ! Olhou à volta e viu ossos espalhados no chão por perto. Em vez de apavorar-se mais ainda, o velho cão ajeita-se junto ao osso mais próximo, e começa a roê-lo, dando as costas ao predador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ndo o leopardo estava aponto de dar o bote, o velho cachorro exclama bem alto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711600" y="6049800"/>
            <a:ext cx="2340000" cy="14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 fill="hold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dur="indefinite" fill="hold">
                      <p:stCondLst>
                        <p:cond delay="indefinite"/>
                      </p:stCondLst>
                      <p:childTnLst>
                        <p:par>
                          <p:cTn id="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60360" y="360360"/>
            <a:ext cx="9180360" cy="64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ra, este leopardo estava delicioso ! Será que há outros por aí 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uvindo isso, o jovem leopardo, com um arrepio de terror, suspende seu ataque já quase começado, e se esgueira na direção das árvo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Caramba! pensa o leopardo, essa foi por pouco ! O velho vira-lata quase me pega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 macaco, numa árvore ali perto, viu toda a cena e logo imaginou como fazer bom uso do que vira: em troca de proteção para si, informaria ao predador que o vira-lata não havia comido leopardo algum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 assim foi, rápido, em direção ao leopardo. Mas o velho cachorro o vê correndona direção do predador em grande velocidade, e pens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9640" y="4500720"/>
            <a:ext cx="2880000" cy="2243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784840" y="4859280"/>
            <a:ext cx="2854440" cy="203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 fill="hold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dur="indefinite" fill="hold">
                      <p:stCondLst>
                        <p:cond delay="indefinite"/>
                      </p:stCondLst>
                      <p:childTnLst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90400" y="900000"/>
            <a:ext cx="9129960" cy="61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í tem coisa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macaco logo alcança o felino, cochicha-lhe o que interessa e faz um acordocom o leopar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jovem leopardo fica furioso por ter sido feito de bobo, e diz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"Aí, macaco! Suba nas minhas costas para você ver o que acontece com aquele cachorro abusado!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gora, o velho cachorro vê um leopardo furioso, vindo em sua direção, com ummacaco nas costas, e pens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E agora, o que é que eu posso fazer 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as, em vez de correr (sabe que suas pernas doídas não o levariam longe...), o cachorro senta, mais uma vez dando costas aos agressores, fazendo de conta que ainda não os viu, e quando estavam perto o bastante para ouvi-lo, o velho cão diz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580000" y="5400720"/>
            <a:ext cx="2879640" cy="1979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519280" y="5400720"/>
            <a:ext cx="2519280" cy="19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1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dur="indefinite" fill="hold">
                      <p:stCondLst>
                        <p:cond delay="indefinite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dur="indefinite" fill="hold">
                      <p:stCondLst>
                        <p:cond delay="indefinite"/>
                      </p:stCondLst>
                      <p:childTnLst>
                        <p:par>
                          <p:cTn id="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800360" y="2519280"/>
            <a:ext cx="5400720" cy="3600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39640" y="539640"/>
            <a:ext cx="9401400" cy="52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"Cadê o safado daquele macaco? Estou com fome! Eu o mandei buscar outro leopardo para mim!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oral da história: não mexa com cachorro velho... idade e habilidade se sobrepõem à juventude e intriga. Sabedoria só vem com idade e experiê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800" fill="hold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21:30:22Z</dcterms:created>
  <dc:creator/>
  <dc:description/>
  <dc:language>en-US</dc:language>
  <cp:lastModifiedBy/>
  <cp:revision>1</cp:revision>
  <dc:subject/>
  <dc:title/>
</cp:coreProperties>
</file>